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09A-E06E-45AD-9FB8-DC0AFD6F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5B2-D836-4A9E-B840-3D1C554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969-8A59-472E-A2AA-D2E6552C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990-BE29-467F-BAB9-5609860A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598-051B-46EF-9E23-C095DE7C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CC9-6641-4BC3-922C-DC88ADF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F40-0120-47A6-B65C-E44B609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576-2E5F-4259-A4D0-EEC94B1A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33B-C5D7-490D-A79A-AC97B40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D93-A3EC-4A51-B07D-D13AE349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402-970B-486A-8DD9-FB3EF494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F50-4C6F-4C88-9188-8FBD46A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9944-8F12-4655-8C8F-5C76FBB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FF98-7B77-47B0-BD87-2EC5B9E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135-8575-46E3-8D47-D5B9BC6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19B4-50AA-4510-9A35-E631704D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6AB-ECEB-4A26-8B12-15F81492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06B-1381-40A0-9C9D-45BF43F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9DB-9037-4B97-931C-0E754AA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650-0482-4886-AE52-31DA3F6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845-2FD3-41AA-9A45-9DF35F97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AD2-05B1-446F-917F-05918D4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806-B929-40F9-9B2E-6A96EC2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A08-29E4-4F63-8526-0D947C6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E6D-6CED-42F7-8D4A-6A5F3D30886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CB9-2767-4851-A047-9AA8D47C97A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838080"/>
            <a:ext cx="6870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a pig in a pok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Name 3 symbols of Halloween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52574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4400" y="3458520"/>
            <a:ext cx="6580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umpkins, ghosts,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wit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45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